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945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4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ftr" idx="1"/>
          </p:nvPr>
        </p:nvSpPr>
        <p:spPr>
          <a:xfrm>
            <a:off x="609480" y="8763120"/>
            <a:ext cx="5943600" cy="380880"/>
          </a:xfrm>
          <a:prstGeom prst="rect">
            <a:avLst/>
          </a:prstGeom>
          <a:noFill/>
          <a:ln w="0">
            <a:noFill/>
          </a:ln>
        </p:spPr>
        <p:txBody>
          <a:bodyPr lIns="19080" rIns="19080" tIns="0" bIns="0" anchor="b">
            <a:noAutofit/>
          </a:bodyPr>
          <a:lstStyle>
            <a:lvl1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1" lang="en-US" sz="1000" spc="-1" strike="noStrike">
                <a:solidFill>
                  <a:srgbClr val="000000"/>
                </a:solidFill>
                <a:latin typeface="Times New Roman"/>
              </a:defRPr>
            </a:lvl1pPr>
          </a:lstStyle>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850C364C-4138-4991-A692-CC4760BCB69F}"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86" name="PlaceHolder 2"/>
          <p:cNvSpPr>
            <a:spLocks noGrp="1"/>
          </p:cNvSpPr>
          <p:nvPr>
            <p:ph type="hdr"/>
          </p:nvPr>
        </p:nvSpPr>
        <p:spPr>
          <a:xfrm>
            <a:off x="-1440" y="6120"/>
            <a:ext cx="6997680" cy="463320"/>
          </a:xfrm>
          <a:prstGeom prst="rect">
            <a:avLst/>
          </a:prstGeom>
          <a:noFill/>
          <a:ln w="0">
            <a:noFill/>
          </a:ln>
        </p:spPr>
        <p:txBody>
          <a:bodyPr lIns="19080" rIns="19080" tIns="0" bIns="0" anchor="t">
            <a:noAutofit/>
          </a:bodyPr>
          <a:p>
            <a:pPr marL="216000"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82240" y="706320"/>
            <a:ext cx="4629240" cy="346896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move the slide</a:t>
            </a:r>
            <a:endParaRPr b="0" lang="en-US" sz="4000" spc="-1" strike="noStrike">
              <a:solidFill>
                <a:srgbClr val="003366"/>
              </a:solidFill>
              <a:latin typeface="Arial Black"/>
            </a:endParaRPr>
          </a:p>
        </p:txBody>
      </p:sp>
      <p:sp>
        <p:nvSpPr>
          <p:cNvPr id="88" name="PlaceHolder 4"/>
          <p:cNvSpPr>
            <a:spLocks noGrp="1"/>
          </p:cNvSpPr>
          <p:nvPr>
            <p:ph type="body"/>
          </p:nvPr>
        </p:nvSpPr>
        <p:spPr>
          <a:xfrm>
            <a:off x="932040" y="4414320"/>
            <a:ext cx="5130720" cy="4170600"/>
          </a:xfrm>
          <a:prstGeom prst="rect">
            <a:avLst/>
          </a:prstGeom>
          <a:noFill/>
          <a:ln w="0">
            <a:noFill/>
          </a:ln>
        </p:spPr>
        <p:txBody>
          <a:bodyPr lIns="93600" rIns="93600" tIns="47520" bIns="4752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963960" y="4680"/>
            <a:ext cx="30322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63960" y="8826480"/>
            <a:ext cx="3032280" cy="463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000000"/>
              </a:solidFill>
              <a:latin typeface="Times New Roman"/>
            </a:endParaRPr>
          </a:p>
        </p:txBody>
      </p:sp>
      <p:sp>
        <p:nvSpPr>
          <p:cNvPr id="161" name=""/>
          <p:cNvSpPr/>
          <p:nvPr/>
        </p:nvSpPr>
        <p:spPr>
          <a:xfrm>
            <a:off x="-1440" y="882648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40" y="468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3960" y="0"/>
            <a:ext cx="3032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63960" y="7848720"/>
            <a:ext cx="303228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000000"/>
              </a:solidFill>
              <a:latin typeface="Times New Roman"/>
            </a:endParaRPr>
          </a:p>
        </p:txBody>
      </p:sp>
      <p:sp>
        <p:nvSpPr>
          <p:cNvPr id="165" name=""/>
          <p:cNvSpPr/>
          <p:nvPr/>
        </p:nvSpPr>
        <p:spPr>
          <a:xfrm>
            <a:off x="-1440" y="8831160"/>
            <a:ext cx="3031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40" y="0"/>
            <a:ext cx="30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sldImg"/>
          </p:nvPr>
        </p:nvSpPr>
        <p:spPr>
          <a:xfrm>
            <a:off x="1184400" y="706320"/>
            <a:ext cx="4626000" cy="3468960"/>
          </a:xfrm>
          <a:prstGeom prst="rect">
            <a:avLst/>
          </a:prstGeom>
          <a:ln w="0">
            <a:noFill/>
          </a:ln>
        </p:spPr>
      </p:sp>
      <p:sp>
        <p:nvSpPr>
          <p:cNvPr id="168" name="PlaceHolder 2"/>
          <p:cNvSpPr>
            <a:spLocks noGrp="1"/>
          </p:cNvSpPr>
          <p:nvPr>
            <p:ph type="body"/>
          </p:nvPr>
        </p:nvSpPr>
        <p:spPr>
          <a:xfrm>
            <a:off x="932040" y="4414320"/>
            <a:ext cx="5130720" cy="4170600"/>
          </a:xfrm>
          <a:prstGeom prst="rect">
            <a:avLst/>
          </a:prstGeom>
          <a:noFill/>
          <a:ln w="0">
            <a:noFill/>
          </a:ln>
        </p:spPr>
        <p:txBody>
          <a:bodyPr lIns="95400" rIns="95400" tIns="49320" bIns="4932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o achieve interoperability on data that includes date and time valu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oftware developers often look to ISO 8601, the relevant ISO standar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s a guide for implementation. However, this standard has many pitfall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at plague innocent developers. Although its problems are not limit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o the arena of internationalization, 8601 includes some particular</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hallenges for international applications. This session will highlight</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contents of, and some of the problems with, using ISO 860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4400" y="706320"/>
            <a:ext cx="4626000" cy="3468960"/>
          </a:xfrm>
          <a:prstGeom prst="rect">
            <a:avLst/>
          </a:prstGeom>
          <a:ln w="0">
            <a:noFill/>
          </a:ln>
        </p:spPr>
      </p:sp>
      <p:sp>
        <p:nvSpPr>
          <p:cNvPr id="18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table demonstrates the Calendar, Week, and Ordinal date formats. The extended formats shows the additional separator characters. The basic format does not use separator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table also gives an example of a truncated format. In this case the higher order components CENTURY and YEAR are omitted. The two hyphens indicate the missing century and year. The spaces around the hyphens should not be part of the format, however, to make it clear that there were two hyphens, not one, we used the spaces to separate them.</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expanded format shows that by agreement they year might exceed the range 0000-9999.</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example of reduced precision shows that the lower order component, the day number within the week, can be omitted. In this case the 15th week of the year 1985 is represen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6320"/>
            <a:ext cx="4626000" cy="3468960"/>
          </a:xfrm>
          <a:prstGeom prst="rect">
            <a:avLst/>
          </a:prstGeom>
          <a:ln w="0">
            <a:noFill/>
          </a:ln>
        </p:spPr>
      </p:sp>
      <p:sp>
        <p:nvSpPr>
          <p:cNvPr id="19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now discuss the representations defined by ISO 8601 for times, including local and universal time formats and formats that represent both date and times togeth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4400" y="706320"/>
            <a:ext cx="4626000" cy="3468960"/>
          </a:xfrm>
          <a:prstGeom prst="rect">
            <a:avLst/>
          </a:prstGeom>
          <a:ln w="0">
            <a:noFill/>
          </a:ln>
        </p:spPr>
      </p:sp>
      <p:sp>
        <p:nvSpPr>
          <p:cNvPr id="192"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slide shows the ranges of values that each element can hav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allows that hours can use the value 24 to represent midnight. It is equivalent to 00 of the next day. This is useful when you want to represent an interval that is within one day e.g. 00-24.</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econds can include the value 60, so that leap seconds can be represented. The decision to introduce a leap second in UTC is the responsibility of the International Earth Rotation Service (IERS).  For more information: http://tycho.usno.navy.mil/leapsec.html.</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t is possible to represent times as a fraction of an hour, minute or second. We will give an example shortly.</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ime of course can refer to local time or the Universal time. The standard allows for specification of either, as well as specifying local time with an indication of the difference from Universal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4400" y="706320"/>
            <a:ext cx="4626000" cy="3468960"/>
          </a:xfrm>
          <a:prstGeom prst="rect">
            <a:avLst/>
          </a:prstGeom>
          <a:ln w="0">
            <a:noFill/>
          </a:ln>
        </p:spPr>
      </p:sp>
      <p:sp>
        <p:nvSpPr>
          <p:cNvPr id="19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table shows the various format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te the comma used to indicate a decimal fraction. The standard allows for a period to be used as well. The time represented here is 23 hours, 20 minutes, 50.5 second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t>
            </a:r>
            <a:r>
              <a:rPr b="0" lang="en-US" sz="1200" spc="-1" strike="noStrike">
                <a:solidFill>
                  <a:srgbClr val="000000"/>
                </a:solidFill>
                <a:latin typeface="Arial"/>
              </a:rPr>
              <a:t>Z” is used to indicate UTC.</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offset of 1 hour is used here to indicate the local time that is 1 hour ahead of UT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6320"/>
            <a:ext cx="4626000" cy="3468960"/>
          </a:xfrm>
          <a:prstGeom prst="rect">
            <a:avLst/>
          </a:prstGeom>
          <a:ln w="0">
            <a:noFill/>
          </a:ln>
        </p:spPr>
      </p:sp>
      <p:sp>
        <p:nvSpPr>
          <p:cNvPr id="19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hen combining date and time, the letter “T” is used to indicate the start of the representation of the time element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ou can use either of the calendar, ordinal, or week date formats with the different time formats: local, UTC, or offset from U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4400" y="706320"/>
            <a:ext cx="4626000" cy="3468960"/>
          </a:xfrm>
          <a:prstGeom prst="rect">
            <a:avLst/>
          </a:prstGeom>
          <a:ln w="0">
            <a:noFill/>
          </a:ln>
        </p:spPr>
      </p:sp>
      <p:sp>
        <p:nvSpPr>
          <p:cNvPr id="19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Finally, we will present the representation formats for time-intervals. We will also discuss the format for representing repeating interv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4400" y="706320"/>
            <a:ext cx="4626000" cy="3468960"/>
          </a:xfrm>
          <a:prstGeom prst="rect">
            <a:avLst/>
          </a:prstGeom>
          <a:ln w="0">
            <a:noFill/>
          </a:ln>
        </p:spPr>
      </p:sp>
      <p:sp>
        <p:nvSpPr>
          <p:cNvPr id="20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te that time-intervals come in 4 varieties. They can be specified by</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ny of:</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tart and end time</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tart and duration</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duration and end time</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just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pecifying a time-interval with a start and end time uses the format for specifying a point in time for both elements and a solidus “/” as a separator.</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representation of a duration always begins with the letter “P”.</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give 2 examples of a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6320"/>
            <a:ext cx="4626000" cy="3468960"/>
          </a:xfrm>
          <a:prstGeom prst="rect">
            <a:avLst/>
          </a:prstGeom>
          <a:ln w="0">
            <a:noFill/>
          </a:ln>
        </p:spPr>
      </p:sp>
      <p:sp>
        <p:nvSpPr>
          <p:cNvPr id="202"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ere we have the formats that mix a time with a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te that you can use a duration which uses the letters “Y,M,D,H,M,S” and the number of units of each, or you can use the format that is used to represent a combined date and time to represent the duration. If you use the latter, you do not need the letter indications, because each unit for each element is a fixed lengt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4400" y="706320"/>
            <a:ext cx="4626000" cy="3468960"/>
          </a:xfrm>
          <a:prstGeom prst="rect">
            <a:avLst/>
          </a:prstGeom>
          <a:ln w="0">
            <a:noFill/>
          </a:ln>
        </p:spPr>
      </p:sp>
      <p:sp>
        <p:nvSpPr>
          <p:cNvPr id="20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ou can use the formats used to represent time-intervals to represent recurring time-interval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ou use “R” to indicate this format is the recurring one. The “R” is followed by the number of recurrences. The number of recurrences is optional however. If you do not specify the number, then the number of recurrences is unbound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hen a start time and end time are specified, this represents the first recurrence, subsequent recurrences have the same length.</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4400" y="706320"/>
            <a:ext cx="4626000" cy="3468960"/>
          </a:xfrm>
          <a:prstGeom prst="rect">
            <a:avLst/>
          </a:prstGeom>
          <a:ln w="0">
            <a:noFill/>
          </a:ln>
        </p:spPr>
      </p:sp>
      <p:sp>
        <p:nvSpPr>
          <p:cNvPr id="20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se examples specify 12 recurrences occurring with:</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period of April 12 1985 23:20:50 to June 25 1985 10:30,</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duration of 2 Years 10 months 15 days 10 hours 20 minutes 20 seconds, and </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 start time of April 12 1985 23:20:50 for a duration of 2 years 2 months 15 days 12 hours 30 minutes.</a:t>
            </a:r>
            <a:endParaRPr b="0" lang="en-US" sz="1200" spc="-1" strike="noStrike">
              <a:solidFill>
                <a:srgbClr val="000000"/>
              </a:solidFill>
              <a:latin typeface="Arial"/>
            </a:endParaRPr>
          </a:p>
          <a:p>
            <a:pPr indent="0">
              <a:lnSpc>
                <a:spcPct val="90000"/>
              </a:lnSpc>
              <a:spcBef>
                <a:spcPts val="60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format for duration and end time is not presented here. It is analogous to the start time and duration with the positions revers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4400" y="706320"/>
            <a:ext cx="4626000" cy="3468960"/>
          </a:xfrm>
          <a:prstGeom prst="rect">
            <a:avLst/>
          </a:prstGeom>
          <a:ln w="0">
            <a:noFill/>
          </a:ln>
        </p:spPr>
      </p:sp>
      <p:sp>
        <p:nvSpPr>
          <p:cNvPr id="17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SO 8601 is an international standard that specifies the representation of dates in the Gregorian calendar, times and representations of periods of tim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is applicable whenever dates and times are included in information interchang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s my company provides tools for application developers, I see a number of applications created where ISO 8601:1988 is blindly referenced and incorporated into their architecture. However, although there can be many advantages to using 8601, there are also some drawbacks. With the release of ISO 8601:2000, the standard bears looking into more closely to understand where it is suitable for use, and more importantly where its use might create problem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lso, 8601 is increasingly being referenced by other standards, and its principles are being incorporated into many standards and technologies, (such as XML), and so its limitations need to be understo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6320"/>
            <a:ext cx="4626000" cy="3468960"/>
          </a:xfrm>
          <a:prstGeom prst="rect">
            <a:avLst/>
          </a:prstGeom>
          <a:ln w="0">
            <a:noFill/>
          </a:ln>
        </p:spPr>
      </p:sp>
      <p:sp>
        <p:nvSpPr>
          <p:cNvPr id="20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SO 8601 is an improvement over many of the alternative formats in use today. In particular, it is easy to sort (since its granularity increases monotonically and each element is fixed length), and easy to work with in software as well as being human-readable (although people may prefer the formats of their locale). Also, it does not favor any one culture. And each element of the format is chosen to be unique so that it cannot be mistaken for another ele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764DF584-FC36-4F5B-8C50-8AB77782595C}"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210"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211" name="PlaceHolder 1"/>
          <p:cNvSpPr>
            <a:spLocks noGrp="1"/>
          </p:cNvSpPr>
          <p:nvPr>
            <p:ph type="sldImg"/>
          </p:nvPr>
        </p:nvSpPr>
        <p:spPr>
          <a:xfrm>
            <a:off x="1319040" y="385920"/>
            <a:ext cx="4243680" cy="3182760"/>
          </a:xfrm>
          <a:prstGeom prst="rect">
            <a:avLst/>
          </a:prstGeom>
          <a:ln w="0">
            <a:noFill/>
          </a:ln>
        </p:spPr>
      </p:sp>
      <p:sp>
        <p:nvSpPr>
          <p:cNvPr id="212"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w that we know the basics of the standard we can take a closer look to see what problems can result from a naïve approach to incorporating it into an applic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aving a standard for date and time representation and interchange is a necessity in the world today.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owever, there remain some problems in using the standard. Some of the semantics are undefined and there are ambiguities that need to be consider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6320"/>
            <a:ext cx="4626000" cy="3468960"/>
          </a:xfrm>
          <a:prstGeom prst="rect">
            <a:avLst/>
          </a:prstGeom>
          <a:ln w="0">
            <a:noFill/>
          </a:ln>
        </p:spPr>
      </p:sp>
      <p:sp>
        <p:nvSpPr>
          <p:cNvPr id="21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Fortunately, most applications do not need accuracy to the second. Although an application can have a table of leap seconds inserted to-date, there is no predicting when additional leap seconds will be inserted into the calendar. So knowing which minutes in the future can validly have a 60th second is impossible. Also note there are negative leap seconds representing the omission of a second. (The decision to introduce a leap second in UTC is the responsibility of the International Earth Rotation Service (IERS).  For more information: http://tycho.usno.navy.mil/leapsec.html)</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number of days in a year or month varies with date and the number of seconds in a minute also varies between 59 and 60. So specifying a duration of one these units is ambiguous. Some applications may limit a month to 30 days when used in a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allows for reduced precision. However, applications need to be careful to only compare times or durations of the same precision. For example, what does it mean to compare a week no. with a more granular day of the week (50th week of 1985 compared to Monday of that week)?</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Variations of 8601 exist and are in practice today, so you should be careful not to be fooled by something that looks like its using 8601. For example, the format can be used to represent Julian or other calendars (Japanese, or a true Gregorian calendar). These are (hopefully) distinguished by the use of J, G or E in the format for Julian, Gregorian or (Emperor) Er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4400" y="706320"/>
            <a:ext cx="4626000" cy="3468960"/>
          </a:xfrm>
          <a:prstGeom prst="rect">
            <a:avLst/>
          </a:prstGeom>
          <a:ln w="0">
            <a:noFill/>
          </a:ln>
        </p:spPr>
      </p:sp>
      <p:sp>
        <p:nvSpPr>
          <p:cNvPr id="21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Date arithmetic is not defined. For example, what does adding one month to March 31 result in? Adding one month could mean adding 30 days, as the standard indicates some applications may agree to do. In other cases, an application might want adding one month to mean incrementing the month element. Java does this and if the day is then an invalid value for that month, it resets the day to the maximum for that month.</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Depending on your rules for addition, it may not be commutative or associative, and as a result, subtraction may not be the inverse of addi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does not specify a precision for decimal fractions. Applications using this format will need to agree on a precis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4400" y="706320"/>
            <a:ext cx="4626000" cy="3468960"/>
          </a:xfrm>
          <a:prstGeom prst="rect">
            <a:avLst/>
          </a:prstGeom>
          <a:ln w="0">
            <a:noFill/>
          </a:ln>
        </p:spPr>
      </p:sp>
      <p:sp>
        <p:nvSpPr>
          <p:cNvPr id="21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ost applications will need to convert between ISO 8601 and a native calendar. Developers need to be aware that the Gregorian calendar was adopted at different times in different regions of the world, and dates may have been inserted to synchronize to the new calendar. The conversion routines may need to accommodate these regional differenc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ost calendars define a starting point of year 1, and the year before that is year -1. 8601 defines a year 0000 and this needs to be taken into account. Leap years are also defined for year 0000 and earlier, and this needs to be taken into account in the conversion as well.</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hen converting or working with dates, be aware that time zones can shift the date, and yet are often not specified when times are not provid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6320"/>
            <a:ext cx="4626000" cy="3468960"/>
          </a:xfrm>
          <a:prstGeom prst="rect">
            <a:avLst/>
          </a:prstGeom>
          <a:ln w="0">
            <a:noFill/>
          </a:ln>
        </p:spPr>
      </p:sp>
      <p:sp>
        <p:nvSpPr>
          <p:cNvPr id="22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Rules for local time offsets and dates for the beginning and end of daylight savings time are difficult to know and keep track of. This makes it difficult to predict local dates and tim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0F381107-6725-461D-8F1F-3938EC857EF3}"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222"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223" name="PlaceHolder 1"/>
          <p:cNvSpPr>
            <a:spLocks noGrp="1"/>
          </p:cNvSpPr>
          <p:nvPr>
            <p:ph type="sldImg"/>
          </p:nvPr>
        </p:nvSpPr>
        <p:spPr>
          <a:xfrm>
            <a:off x="1319040" y="385920"/>
            <a:ext cx="4243680" cy="3182760"/>
          </a:xfrm>
          <a:prstGeom prst="rect">
            <a:avLst/>
          </a:prstGeom>
          <a:ln w="0">
            <a:noFill/>
          </a:ln>
        </p:spPr>
      </p:sp>
      <p:sp>
        <p:nvSpPr>
          <p:cNvPr id="224"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Let’s look at the solutions that are availa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6320"/>
            <a:ext cx="4626000" cy="3468960"/>
          </a:xfrm>
          <a:prstGeom prst="rect">
            <a:avLst/>
          </a:prstGeom>
          <a:ln w="0">
            <a:noFill/>
          </a:ln>
        </p:spPr>
      </p:sp>
      <p:sp>
        <p:nvSpPr>
          <p:cNvPr id="22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suggests mutual agreements as a solution for resolving many of the ambiguities within the standard. This can be fine for individual applications, but is not a solution for the web, or other environments attempting to integrate independent application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greeing to use the date/time libraries of the implementation language (or another third party) may be one way to insure compatibility across disparate applications. For example using Java’s date arithmetic algorithms is one way of identifying a set of rules that can be consistent across applications. However, this may restrict the set of applications that can interoperat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ew standards that employ 8601 may need to create their own set of rules or constraints on top of 8601 to insure consistency. For example, XML Schema is designing date and time elements based on 8601. If XML-based applications are to interpret XML documents consistently across the web and have a predictable set of behaviors, then rules for date arithmetic, etc. will need to be defined. For some applications, the solution will be to restrict the formats used by the application and not entertain some of the ambiguities introduced by recurring intervals and the lik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learly, though, there is a need for additional standards that define the semantics of the date and time representations of 860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4400" y="706320"/>
            <a:ext cx="4626000" cy="3468960"/>
          </a:xfrm>
          <a:prstGeom prst="rect">
            <a:avLst/>
          </a:prstGeom>
          <a:ln w="0">
            <a:noFill/>
          </a:ln>
        </p:spPr>
      </p:sp>
      <p:sp>
        <p:nvSpPr>
          <p:cNvPr id="22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SO/FDIS 8601:2000 Data elements and interchange formats --- Information interchange --- Representation of dates and times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ark Davis “Schema Time Chang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ttp://www.macchiato.com/unicode/timeIntervals.htm</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document looks at some of the issues with time instants and durations and recommends some solution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any of the issues noted in this presentation came out of discussions in the W3C I18N working and interest group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E9AC9392-102E-4575-B2E5-E8C1BEA13688}"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230"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231" name="PlaceHolder 1"/>
          <p:cNvSpPr>
            <a:spLocks noGrp="1"/>
          </p:cNvSpPr>
          <p:nvPr>
            <p:ph type="sldImg"/>
          </p:nvPr>
        </p:nvSpPr>
        <p:spPr>
          <a:xfrm>
            <a:off x="793800" y="385920"/>
            <a:ext cx="4243320" cy="3182760"/>
          </a:xfrm>
          <a:prstGeom prst="rect">
            <a:avLst/>
          </a:prstGeom>
          <a:ln w="0">
            <a:noFill/>
          </a:ln>
        </p:spPr>
      </p:sp>
      <p:sp>
        <p:nvSpPr>
          <p:cNvPr id="232"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 have shown you that ISO 8601 has some ambiguities and its usage may require adoption of restrictions and/or clarification of semantics in order to insure consisten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7E72F761-0D84-4CA1-A5B1-F4B350A00AA6}"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172"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1319040" y="385920"/>
            <a:ext cx="4243680" cy="3182760"/>
          </a:xfrm>
          <a:prstGeom prst="rect">
            <a:avLst/>
          </a:prstGeom>
          <a:ln w="0">
            <a:noFill/>
          </a:ln>
        </p:spPr>
      </p:sp>
      <p:sp>
        <p:nvSpPr>
          <p:cNvPr id="174"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begin with a high level overview of the different ways date an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ime and intervals can be represented, as specified by ISO 8601. Then we will go back and identify more closely scenarios where using the standard may introduce ambiguities or other problems with date and time values. Where possible, we will suggest workarounds for these problem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has many places where it suggests that mutual agreements be created between the parties that are interchanging date and time information, to insure that ambiguities be identified and resolved. These also need to be taken into accou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4400" y="706320"/>
            <a:ext cx="4626000" cy="3468960"/>
          </a:xfrm>
          <a:prstGeom prst="rect">
            <a:avLst/>
          </a:prstGeom>
          <a:ln w="0">
            <a:noFill/>
          </a:ln>
        </p:spPr>
      </p:sp>
      <p:sp>
        <p:nvSpPr>
          <p:cNvPr id="17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first discuss the various representation formats defined by the standard for these data typ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presentation will not cover every possible combination of representative formats. The reader can get this from the standard. It identifies all of the formats and provides examples. However, we will cover enough of the formats to suggest all of the possible combin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6320"/>
            <a:ext cx="4626000" cy="3468960"/>
          </a:xfrm>
          <a:prstGeom prst="rect">
            <a:avLst/>
          </a:prstGeom>
          <a:ln w="0">
            <a:noFill/>
          </a:ln>
        </p:spPr>
      </p:sp>
      <p:sp>
        <p:nvSpPr>
          <p:cNvPr id="17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uses digits, alphabetic characters and other characters from the ISO/IEC 646 standard. Spaces are not used in the representations of date or time. Separators are used to distinguish elements of the date and time formats in Extended Format. The basic format does not use hyphen or colon separator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allows for considerable flexibility. Higher order components of dates for example can be eliminated, if there is an agreement or other understanding that implies the missing values. For example, the year -85 can be understood to mean 1985 by mutual agreement. If the entire year is missing in an end date, it can be presumed to be the same year as referenced in the start dat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Reduced precision refers to the omission of lower order components. For example, if a time is accurate only to an hour, the minutes and seconds can be dropped. Or the day of the month can be omitted, if the date only needs accuracy to the month.</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ears are generally in the range 0 to 9999. However, by agreement negative years and years to 999999 can be represent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ll of the fields of date and time have a prescribed length and leading zeros are used as needed. The fixed length of the fields eliminates ambiguities that would otherwise occu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4400" y="706320"/>
            <a:ext cx="4626000" cy="3468960"/>
          </a:xfrm>
          <a:prstGeom prst="rect">
            <a:avLst/>
          </a:prstGeom>
          <a:ln w="0">
            <a:noFill/>
          </a:ln>
        </p:spPr>
      </p:sp>
      <p:sp>
        <p:nvSpPr>
          <p:cNvPr id="18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se letter codes are used in the date and time representation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see examples of e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4400" y="706320"/>
            <a:ext cx="4626000" cy="3468960"/>
          </a:xfrm>
          <a:prstGeom prst="rect">
            <a:avLst/>
          </a:prstGeom>
          <a:ln w="0">
            <a:noFill/>
          </a:ln>
        </p:spPr>
      </p:sp>
      <p:sp>
        <p:nvSpPr>
          <p:cNvPr id="182"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8601 uses the Gregorian calendar for the identification of calendar days.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year number 1875 is assigned  to the calendar year in which the “Convention du mètre” was signed at Pari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Gregorian calendar distinguishes common years with a duration of 365 calendar days and leap years with a duration of 366 calendar days. A leap year is a year whose year number is a multiple of 4. However, centennial years are not leap years unless they are divisible by four hundred an integral number of times.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8601 allows the identification of calendar years by their year number for years both before and after the introduction of the Gregorian calendar. For the determination of calendar years and year numbers only the rules mentioned above are used. The use of this calendar for dates preceding the introduction of the Gregorian calendar (i.e. before 1582) should only be done by agreement of the partners in information interchange.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year [0000] is a leap year.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 dates are inserted or deleted when determining dates in the 8601 Gregorian calendar (this may be necessary when using  the Julian calendar before 1582). Also note that the year numbers of years before the calendar year [0001] differ from the year numbers in the “BC/AD calendar system”, where the year “1 BC” is followed by the  year “1 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6320"/>
            <a:ext cx="4626000" cy="3468960"/>
          </a:xfrm>
          <a:prstGeom prst="rect">
            <a:avLst/>
          </a:prstGeom>
          <a:ln w="0">
            <a:noFill/>
          </a:ln>
        </p:spPr>
      </p:sp>
      <p:sp>
        <p:nvSpPr>
          <p:cNvPr id="18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se are the rules for numbering the days of the week and counting weeks in the year. Note that the definition of the week of the year can vary from country to country. You may therefore need to compare the ISO 8601 rules with the rules used in your locale and provide a conversion between the local calendar week and the ISO 8601 calendar week, if you are using ISO 8601 for interchan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4400" y="706320"/>
            <a:ext cx="4626000" cy="3468960"/>
          </a:xfrm>
          <a:prstGeom prst="rect">
            <a:avLst/>
          </a:prstGeom>
          <a:ln w="0">
            <a:noFill/>
          </a:ln>
        </p:spPr>
      </p:sp>
      <p:sp>
        <p:nvSpPr>
          <p:cNvPr id="18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re are 3 ways to specify a date. The day can be given relative to its ordinal number within the year, within a month, or within the calendar wee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28"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9"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31"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2"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3"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4"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36"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7"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8"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9"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40"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41"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49"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5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53"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54"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8120" y="-360"/>
            <a:ext cx="8610480" cy="5299560"/>
          </a:xfrm>
          <a:prstGeom prst="rect">
            <a:avLst/>
          </a:prstGeom>
          <a:noFill/>
          <a:ln w="0">
            <a:noFill/>
          </a:ln>
        </p:spPr>
        <p:txBody>
          <a:bodyPr lIns="0" rIns="0" tIns="0" bIns="0" anchor="ctr">
            <a:noAutofit/>
          </a:bodyPr>
          <a:p>
            <a:endParaRPr b="0" lang="en-US" sz="3000" spc="-1" strike="noStrike">
              <a:solidFill>
                <a:srgbClr val="003366"/>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58"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59"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0"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62"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3"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4"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6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7"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8"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0"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1"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3"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4"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5"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6"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8"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9"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0"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1"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2"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3"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11"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12"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8120" y="-360"/>
            <a:ext cx="8610480" cy="5299560"/>
          </a:xfrm>
          <a:prstGeom prst="rect">
            <a:avLst/>
          </a:prstGeom>
          <a:noFill/>
          <a:ln w="0">
            <a:noFill/>
          </a:ln>
        </p:spPr>
        <p:txBody>
          <a:bodyPr lIns="0" rIns="0" tIns="0" bIns="0" anchor="ctr">
            <a:noAutofit/>
          </a:bodyPr>
          <a:p>
            <a:endParaRPr b="0" lang="en-US" sz="3000" spc="-1" strike="noStrike">
              <a:solidFill>
                <a:srgbClr val="003366"/>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1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17"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18"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20"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1"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2"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24"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5"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6"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kgrd_6" descr=""/>
          <p:cNvPicPr/>
          <p:nvPr/>
        </p:nvPicPr>
        <p:blipFill>
          <a:blip r:embed="rId2"/>
          <a:stretch/>
        </p:blipFill>
        <p:spPr>
          <a:xfrm>
            <a:off x="3240" y="0"/>
            <a:ext cx="9140760" cy="6856560"/>
          </a:xfrm>
          <a:prstGeom prst="rect">
            <a:avLst/>
          </a:prstGeom>
          <a:ln w="0">
            <a:noFill/>
          </a:ln>
        </p:spPr>
      </p:pic>
      <p:sp>
        <p:nvSpPr>
          <p:cNvPr id="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lick to edit the title text format</a:t>
            </a:r>
            <a:endParaRPr b="0" lang="en-US" sz="3200" spc="-1" strike="noStrike">
              <a:solidFill>
                <a:srgbClr val="003366"/>
              </a:solidFill>
              <a:latin typeface="Arial Black"/>
            </a:endParaRPr>
          </a:p>
        </p:txBody>
      </p:sp>
      <p:sp>
        <p:nvSpPr>
          <p:cNvPr id="2" name="PlaceHolder 2"/>
          <p:cNvSpPr>
            <a:spLocks noGrp="1"/>
          </p:cNvSpPr>
          <p:nvPr>
            <p:ph type="body"/>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lick to edit the outline text format</a:t>
            </a:r>
            <a:endParaRPr b="1"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cond Outline Level</a:t>
            </a:r>
            <a:endParaRPr b="1" lang="en-US" sz="2800" spc="-1" strike="noStrike">
              <a:solidFill>
                <a:srgbClr val="333333"/>
              </a:solidFill>
              <a:latin typeface="Arial"/>
            </a:endParaRPr>
          </a:p>
          <a:p>
            <a:pPr lvl="2" marL="1143000" indent="-228600">
              <a:spcBef>
                <a:spcPts val="700"/>
              </a:spcBef>
              <a:buClr>
                <a:srgbClr val="33333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rd Outline Level</a:t>
            </a:r>
            <a:endParaRPr b="1" lang="en-US" sz="2800" spc="-1" strike="noStrike">
              <a:solidFill>
                <a:srgbClr val="333333"/>
              </a:solidFill>
              <a:latin typeface="Arial"/>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ourth Outline Level</a:t>
            </a:r>
            <a:endParaRPr b="1" lang="en-US" sz="2800" spc="-1" strike="noStrike">
              <a:solidFill>
                <a:srgbClr val="333333"/>
              </a:solidFill>
              <a:latin typeface="Arial"/>
            </a:endParaRPr>
          </a:p>
          <a:p>
            <a:pPr lvl="4" marL="2057400" indent="-228600">
              <a:spcBef>
                <a:spcPts val="700"/>
              </a:spcBef>
              <a:buClr>
                <a:srgbClr val="33333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ifth Outline Level</a:t>
            </a:r>
            <a:endParaRPr b="1" lang="en-US" sz="2800" spc="-1" strike="noStrike">
              <a:solidFill>
                <a:srgbClr val="333333"/>
              </a:solidFill>
              <a:latin typeface="Arial"/>
            </a:endParaRPr>
          </a:p>
          <a:p>
            <a:pPr lvl="5" marL="2057400" indent="-22860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ixth Outline Level</a:t>
            </a:r>
            <a:endParaRPr b="1" lang="en-US" sz="2800" spc="-1" strike="noStrike">
              <a:solidFill>
                <a:srgbClr val="333333"/>
              </a:solidFill>
              <a:latin typeface="Arial"/>
            </a:endParaRPr>
          </a:p>
          <a:p>
            <a:pPr lvl="6" marL="2057400" indent="-22860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venth Outline Level</a:t>
            </a:r>
            <a:endParaRPr b="1" lang="en-US" sz="2800" spc="-1" strike="noStrike">
              <a:solidFill>
                <a:srgbClr val="333333"/>
              </a:solidFill>
              <a:latin typeface="Arial"/>
            </a:endParaRPr>
          </a:p>
        </p:txBody>
      </p:sp>
      <p:sp>
        <p:nvSpPr>
          <p:cNvPr id="3" name=""/>
          <p:cNvSpPr/>
          <p:nvPr/>
        </p:nvSpPr>
        <p:spPr>
          <a:xfrm>
            <a:off x="609480" y="6553080"/>
            <a:ext cx="8001000" cy="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33520" y="1143000"/>
            <a:ext cx="8001000" cy="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7960" y="6526080"/>
            <a:ext cx="8407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20th International Unicode Conference</a:t>
            </a:r>
            <a:r>
              <a:rPr b="1" lang="en-US" sz="1000" spc="-1" strike="noStrike">
                <a:solidFill>
                  <a:srgbClr val="336699"/>
                </a:solidFill>
                <a:latin typeface="Times New Roman"/>
              </a:rPr>
              <a:t>	</a:t>
            </a:r>
            <a:r>
              <a:rPr b="1" lang="en-US" sz="1000" spc="-1" strike="noStrike">
                <a:solidFill>
                  <a:srgbClr val="336699"/>
                </a:solidFill>
                <a:latin typeface="Times New Roman"/>
              </a:rPr>
              <a:t>	</a:t>
            </a:r>
            <a:r>
              <a:rPr b="1" lang="en-US" sz="1000" spc="-1" strike="noStrike">
                <a:solidFill>
                  <a:srgbClr val="336699"/>
                </a:solidFill>
                <a:latin typeface="Times New Roman"/>
              </a:rPr>
              <a:t>        </a:t>
            </a:r>
            <a:fld id="{3A3154E2-81C2-4A55-A3B5-440A6739566E}" type="slidenum">
              <a:rPr b="1" lang="en-US" sz="1000" spc="-1" strike="noStrike">
                <a:solidFill>
                  <a:srgbClr val="336699"/>
                </a:solidFill>
                <a:latin typeface="Times New Roman"/>
              </a:rPr>
              <a:t>&lt;number&gt;</a:t>
            </a:fld>
            <a:r>
              <a:rPr b="1" lang="en-US" sz="1000" spc="-1" strike="noStrike">
                <a:solidFill>
                  <a:srgbClr val="336699"/>
                </a:solidFill>
                <a:latin typeface="Times New Roman"/>
              </a:rPr>
              <a:t>	</a:t>
            </a:r>
            <a:r>
              <a:rPr b="1" lang="en-US" sz="1000" spc="-1" strike="noStrike">
                <a:solidFill>
                  <a:srgbClr val="336699"/>
                </a:solidFill>
                <a:latin typeface="Times New Roman"/>
              </a:rPr>
              <a:t>	</a:t>
            </a:r>
            <a:r>
              <a:rPr b="1" lang="en-US" sz="1000" spc="-1" strike="noStrike">
                <a:solidFill>
                  <a:srgbClr val="336699"/>
                </a:solidFill>
                <a:latin typeface="Times New Roman"/>
              </a:rPr>
              <a:t>	</a:t>
            </a:r>
            <a:r>
              <a:rPr b="1" lang="en-US" sz="1000" spc="-1" strike="noStrike">
                <a:solidFill>
                  <a:srgbClr val="336699"/>
                </a:solidFill>
                <a:latin typeface="Times New Roman"/>
              </a:rPr>
              <a:t>Washington, DC, January 200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kgrd_6" descr=""/>
          <p:cNvPicPr/>
          <p:nvPr/>
        </p:nvPicPr>
        <p:blipFill>
          <a:blip r:embed="rId2"/>
          <a:stretch/>
        </p:blipFill>
        <p:spPr>
          <a:xfrm>
            <a:off x="0" y="0"/>
            <a:ext cx="9140760" cy="6856560"/>
          </a:xfrm>
          <a:prstGeom prst="rect">
            <a:avLst/>
          </a:prstGeom>
          <a:ln w="0">
            <a:noFill/>
          </a:ln>
        </p:spPr>
      </p:pic>
      <p:sp>
        <p:nvSpPr>
          <p:cNvPr id="43" name="PlaceHolder 1"/>
          <p:cNvSpPr>
            <a:spLocks noGrp="1"/>
          </p:cNvSpPr>
          <p:nvPr>
            <p:ph type="title"/>
          </p:nvPr>
        </p:nvSpPr>
        <p:spPr>
          <a:xfrm>
            <a:off x="914400" y="1882800"/>
            <a:ext cx="7394400" cy="2689200"/>
          </a:xfrm>
          <a:prstGeom prst="rect">
            <a:avLst/>
          </a:prstGeom>
          <a:noFill/>
          <a:ln w="0">
            <a:noFill/>
          </a:ln>
          <a:effectLst>
            <a:outerShdw dist="53966"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44" name=""/>
          <p:cNvSpPr/>
          <p:nvPr/>
        </p:nvSpPr>
        <p:spPr>
          <a:xfrm>
            <a:off x="685800" y="1954080"/>
            <a:ext cx="1440" cy="315144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4876920"/>
            <a:ext cx="6007320" cy="1440"/>
          </a:xfrm>
          <a:prstGeom prst="line">
            <a:avLst/>
          </a:prstGeom>
          <a:ln w="1260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 name=""/>
          <p:cNvSpPr/>
          <p:nvPr/>
        </p:nvSpPr>
        <p:spPr>
          <a:xfrm>
            <a:off x="3124080" y="2286000"/>
            <a:ext cx="2819520" cy="1143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Click to edit the outline text format</a:t>
            </a:r>
            <a:endParaRPr b="0" lang="en-US" sz="3000" spc="-1" strike="noStrike">
              <a:solidFill>
                <a:srgbClr val="003366"/>
              </a:solidFill>
              <a:latin typeface="Arial Black"/>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econd Outline Level</a:t>
            </a:r>
            <a:endParaRPr b="1" lang="en-US" sz="2600" spc="-1" strike="noStrike">
              <a:solidFill>
                <a:srgbClr val="333333"/>
              </a:solidFill>
              <a:latin typeface="Arial"/>
            </a:endParaRPr>
          </a:p>
          <a:p>
            <a:pPr lvl="2" marL="914400" algn="ctr">
              <a:spcBef>
                <a:spcPts val="601"/>
              </a:spcBef>
              <a:buClr>
                <a:srgbClr val="333333"/>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ird Outline Level</a:t>
            </a:r>
            <a:endParaRPr b="1"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1828800" algn="ctr">
              <a:spcBef>
                <a:spcPts val="499"/>
              </a:spcBef>
              <a:buClr>
                <a:srgbClr val="333333"/>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7120" y="1941480"/>
            <a:ext cx="5661000" cy="16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914400" y="1882800"/>
            <a:ext cx="7394400" cy="2689200"/>
          </a:xfrm>
          <a:prstGeom prst="rect">
            <a:avLst/>
          </a:prstGeom>
          <a:noFill/>
          <a:ln w="0">
            <a:noFill/>
          </a:ln>
          <a:effectLst>
            <a:outerShdw dist="53966"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Understanding ISO 8601 date and time representation formats</a:t>
            </a:r>
            <a:endParaRPr b="0" lang="en-US" sz="4000" spc="-1" strike="noStrike">
              <a:solidFill>
                <a:srgbClr val="003366"/>
              </a:solidFill>
              <a:latin typeface="Arial Black"/>
            </a:endParaRPr>
          </a:p>
        </p:txBody>
      </p:sp>
      <p:sp>
        <p:nvSpPr>
          <p:cNvPr id="91" name="PlaceHolder 2"/>
          <p:cNvSpPr>
            <a:spLocks noGrp="1"/>
          </p:cNvSpPr>
          <p:nvPr>
            <p:ph type="subTitle"/>
          </p:nvPr>
        </p:nvSpPr>
        <p:spPr>
          <a:xfrm>
            <a:off x="914400" y="5244840"/>
            <a:ext cx="73944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Tex Texin</a:t>
            </a:r>
            <a:endParaRPr b="0" lang="en-US" sz="3000" spc="-1" strike="noStrike">
              <a:solidFill>
                <a:srgbClr val="003366"/>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Director, International Business</a:t>
            </a:r>
            <a:endParaRPr b="0" lang="en-US" sz="3000" spc="-1" strike="noStrike">
              <a:solidFill>
                <a:srgbClr val="003366"/>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Progress Software Corporation</a:t>
            </a:r>
            <a:endParaRPr b="0" lang="en-US" sz="3000" spc="-1" strike="noStrike">
              <a:solidFill>
                <a:srgbClr val="003366"/>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a:t>
            </a:r>
            <a:endParaRPr b="0" lang="en-US" sz="3200" spc="-1" strike="noStrike">
              <a:solidFill>
                <a:srgbClr val="003366"/>
              </a:solidFill>
              <a:latin typeface="Arial Black"/>
            </a:endParaRPr>
          </a:p>
        </p:txBody>
      </p:sp>
      <p:graphicFrame>
        <p:nvGraphicFramePr>
          <p:cNvPr id="112" name=""/>
          <p:cNvGraphicFramePr/>
          <p:nvPr/>
        </p:nvGraphicFramePr>
        <p:xfrm>
          <a:off x="609480" y="1219320"/>
          <a:ext cx="8151840" cy="5533920"/>
        </p:xfrm>
        <a:graphic>
          <a:graphicData uri="http://schemas.openxmlformats.org/presentationml/2006/ole">
            <p:oleObj progId="Word.Document.12" r:id="rId1" spid="">
              <p:embed/>
              <p:pic>
                <p:nvPicPr>
                  <p:cNvPr id="113" name="" descr=""/>
                  <p:cNvPicPr/>
                  <p:nvPr/>
                </p:nvPicPr>
                <p:blipFill>
                  <a:blip r:embed="rId2"/>
                  <a:stretch/>
                </p:blipFill>
                <p:spPr>
                  <a:xfrm>
                    <a:off x="609480" y="1219320"/>
                    <a:ext cx="8151840" cy="55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61760" y="1828800"/>
            <a:ext cx="792468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alendar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rdinal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Week dates</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 of day</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ocal vs. Universal Time Coordinated (UTC)</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bined data and time</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interval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Recurring time-intervals</a:t>
            </a:r>
            <a:endParaRPr b="1" lang="en-US" sz="2600" spc="-1" strike="noStrike">
              <a:solidFill>
                <a:srgbClr val="333333"/>
              </a:solidFill>
              <a:latin typeface="Arial"/>
            </a:endParaRPr>
          </a:p>
        </p:txBody>
      </p:sp>
      <p:sp>
        <p:nvSpPr>
          <p:cNvPr id="115" name=""/>
          <p:cNvSpPr/>
          <p:nvPr/>
        </p:nvSpPr>
        <p:spPr>
          <a:xfrm>
            <a:off x="457200" y="1981080"/>
            <a:ext cx="8381880" cy="4419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6" name=""/>
          <p:cNvSpPr/>
          <p:nvPr/>
        </p:nvSpPr>
        <p:spPr>
          <a:xfrm flipH="1">
            <a:off x="5104800" y="3733920"/>
            <a:ext cx="1981080" cy="485640"/>
          </a:xfrm>
          <a:custGeom>
            <a:avLst/>
            <a:gdLst>
              <a:gd name="textAreaLeft" fmla="*/ 309240 w 1981080"/>
              <a:gd name="textAreaRight" fmla="*/ 1733400 w 1981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SO 8601:2000 Overview</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s</a:t>
            </a:r>
            <a:endParaRPr b="0" lang="en-US" sz="3200" spc="-1" strike="noStrike">
              <a:solidFill>
                <a:srgbClr val="003366"/>
              </a:solidFill>
              <a:latin typeface="Arial Black"/>
            </a:endParaRPr>
          </a:p>
        </p:txBody>
      </p:sp>
      <p:sp>
        <p:nvSpPr>
          <p:cNvPr id="11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Hours 00-24 (allowing midnight-midnight)</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inutes 00-59</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conds 00-60 (allowing leap second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ecimal fractions of hour, minute, second</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Local and Universal (UTC) time</a:t>
            </a:r>
            <a:endParaRPr b="1"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s</a:t>
            </a:r>
            <a:endParaRPr b="0" lang="en-US" sz="3200" spc="-1" strike="noStrike">
              <a:solidFill>
                <a:srgbClr val="003366"/>
              </a:solidFill>
              <a:latin typeface="Arial Black"/>
            </a:endParaRPr>
          </a:p>
        </p:txBody>
      </p:sp>
      <p:graphicFrame>
        <p:nvGraphicFramePr>
          <p:cNvPr id="121" name=""/>
          <p:cNvGraphicFramePr/>
          <p:nvPr/>
        </p:nvGraphicFramePr>
        <p:xfrm>
          <a:off x="533520" y="1447920"/>
          <a:ext cx="7991280" cy="4032000"/>
        </p:xfrm>
        <a:graphic>
          <a:graphicData uri="http://schemas.openxmlformats.org/presentationml/2006/ole">
            <p:oleObj progId="Word.Document.12" r:id="rId1" spid="">
              <p:embed/>
              <p:pic>
                <p:nvPicPr>
                  <p:cNvPr id="122" name="" descr=""/>
                  <p:cNvPicPr/>
                  <p:nvPr/>
                </p:nvPicPr>
                <p:blipFill>
                  <a:blip r:embed="rId2"/>
                  <a:stretch/>
                </p:blipFill>
                <p:spPr>
                  <a:xfrm>
                    <a:off x="533520" y="1447920"/>
                    <a:ext cx="7991280" cy="40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ombined date and time</a:t>
            </a:r>
            <a:endParaRPr b="0" lang="en-US" sz="3200" spc="-1" strike="noStrike">
              <a:solidFill>
                <a:srgbClr val="003366"/>
              </a:solidFill>
              <a:latin typeface="Arial Black"/>
            </a:endParaRPr>
          </a:p>
        </p:txBody>
      </p:sp>
      <p:sp>
        <p:nvSpPr>
          <p:cNvPr id="12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t>
            </a:r>
            <a:r>
              <a:rPr b="1" lang="en-US" sz="2800" spc="-1" strike="noStrike">
                <a:solidFill>
                  <a:srgbClr val="333333"/>
                </a:solidFill>
                <a:latin typeface="Arial"/>
              </a:rPr>
              <a:t>T” indicates start of tim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ix and match as needed:</a:t>
            </a:r>
            <a:endParaRPr b="1"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alendar dates + local time</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YYY-MM-DDThh:mm</a:t>
            </a:r>
            <a:endParaRPr b="1" lang="en-US" sz="26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Ordinal dates + UTC time</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YYY-DDDThh:mmZ</a:t>
            </a:r>
            <a:endParaRPr b="1" lang="en-US" sz="26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dates + offset from UTC</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YYYWwwDThh:mm±hhmm</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1828800"/>
            <a:ext cx="800100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alendar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rdinal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Week dates</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 of day</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ocal vs. Universal Time Coordinated (UTC)</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bined data and time</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interval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Recurring time-intervals</a:t>
            </a:r>
            <a:endParaRPr b="1" lang="en-US" sz="2600" spc="-1" strike="noStrike">
              <a:solidFill>
                <a:srgbClr val="333333"/>
              </a:solidFill>
              <a:latin typeface="Arial"/>
            </a:endParaRPr>
          </a:p>
        </p:txBody>
      </p:sp>
      <p:sp>
        <p:nvSpPr>
          <p:cNvPr id="126" name=""/>
          <p:cNvSpPr/>
          <p:nvPr/>
        </p:nvSpPr>
        <p:spPr>
          <a:xfrm>
            <a:off x="457200" y="1981080"/>
            <a:ext cx="8381880" cy="4419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 name=""/>
          <p:cNvSpPr/>
          <p:nvPr/>
        </p:nvSpPr>
        <p:spPr>
          <a:xfrm flipH="1">
            <a:off x="5104800" y="5257800"/>
            <a:ext cx="1981080" cy="485640"/>
          </a:xfrm>
          <a:custGeom>
            <a:avLst/>
            <a:gdLst>
              <a:gd name="textAreaLeft" fmla="*/ 309240 w 1981080"/>
              <a:gd name="textAreaRight" fmla="*/ 1733400 w 1981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SO 8601:2000 Overview</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intervals</a:t>
            </a:r>
            <a:endParaRPr b="0" lang="en-US" sz="3200" spc="-1" strike="noStrike">
              <a:solidFill>
                <a:srgbClr val="003366"/>
              </a:solidFill>
              <a:latin typeface="Arial Black"/>
            </a:endParaRPr>
          </a:p>
        </p:txBody>
      </p:sp>
      <p:sp>
        <p:nvSpPr>
          <p:cNvPr id="130"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t>
            </a:r>
            <a:r>
              <a:rPr b="1" lang="en-US" sz="2800" spc="-1" strike="noStrike">
                <a:solidFill>
                  <a:srgbClr val="333333"/>
                </a:solidFill>
                <a:latin typeface="Arial"/>
              </a:rPr>
              <a:t>P” indicates a duration (period)</a:t>
            </a:r>
            <a:endParaRPr b="1" lang="en-US" sz="2800" spc="-1" strike="noStrike">
              <a:solidFill>
                <a:srgbClr val="333333"/>
              </a:solidFill>
              <a:latin typeface="Arial"/>
            </a:endParaRPr>
          </a:p>
          <a:p>
            <a:pPr marL="301680" indent="-3016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ntervals come in 4 varieties:</a:t>
            </a:r>
            <a:endParaRPr b="1" lang="en-US" sz="2800" spc="-1" strike="noStrike">
              <a:solidFill>
                <a:srgbClr val="333333"/>
              </a:solidFill>
              <a:latin typeface="Arial"/>
            </a:endParaRPr>
          </a:p>
          <a:p>
            <a:pPr lvl="1" marL="653760" indent="-2512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tart and end times</a:t>
            </a:r>
            <a:endParaRPr b="1" lang="en-US" sz="2600" spc="-1" strike="noStrike">
              <a:solidFill>
                <a:srgbClr val="333333"/>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YYYY-MM-DDThh:mm:ss</a:t>
            </a:r>
            <a:r>
              <a:rPr b="1" lang="en-US" sz="2400" spc="-1" strike="noStrike">
                <a:solidFill>
                  <a:srgbClr val="cc3300"/>
                </a:solidFill>
                <a:latin typeface="Arial"/>
              </a:rPr>
              <a:t>/</a:t>
            </a:r>
            <a:r>
              <a:rPr b="1" lang="en-US" sz="2400" spc="-1" strike="noStrike">
                <a:solidFill>
                  <a:srgbClr val="333333"/>
                </a:solidFill>
                <a:latin typeface="Arial"/>
              </a:rPr>
              <a:t>YYYY-MM-DDThh:mm:ss</a:t>
            </a:r>
            <a:endParaRPr b="1" lang="en-US" sz="2400" spc="-1" strike="noStrike">
              <a:solidFill>
                <a:srgbClr val="333333"/>
              </a:solidFill>
              <a:latin typeface="Arial"/>
            </a:endParaRPr>
          </a:p>
          <a:p>
            <a:pPr lvl="1" marL="653760" indent="-2512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durations</a:t>
            </a:r>
            <a:endParaRPr b="1" lang="en-US" sz="26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nYnMnDTnHnMnS</a:t>
            </a: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2Y10M15DT10H30M20S</a:t>
            </a: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2 Yr, 10 mon, 15 days, 10 hrs. 30 min. 20 sec.</a:t>
            </a: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6W is a duration of 6 week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intervals</a:t>
            </a:r>
            <a:endParaRPr b="0" lang="en-US" sz="3200" spc="-1" strike="noStrike">
              <a:solidFill>
                <a:srgbClr val="003366"/>
              </a:solidFill>
              <a:latin typeface="Arial Black"/>
            </a:endParaRPr>
          </a:p>
        </p:txBody>
      </p:sp>
      <p:sp>
        <p:nvSpPr>
          <p:cNvPr id="132"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remaining 2 varieties</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tart time and duration</a:t>
            </a:r>
            <a:endParaRPr b="1" lang="en-US" sz="26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YYYY-MM-DDThh:mm:ss/PnYnMnDTnHnMnS   or</a:t>
            </a:r>
            <a:endParaRPr b="1" lang="en-US" sz="22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YYYY-MM-DDThh:mm:ss/PYYYY-MM-DDThh:mm:ss</a:t>
            </a:r>
            <a:endParaRPr b="1" lang="en-US" sz="22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1985-04-12T23:20:50/P0001-02-15T12:30:00</a:t>
            </a:r>
            <a:endParaRPr b="1" lang="en-US" sz="22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duration and end time</a:t>
            </a:r>
            <a:endParaRPr b="1" lang="en-US" sz="26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PnYnMnDTnHnMnS/YYYY-MM-DDThh:mm:ss   or</a:t>
            </a:r>
            <a:endParaRPr b="1" lang="en-US" sz="22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PYYYY-MM-DDThh:mm:ss/YYYY-MM-DDThh:mm:ss</a:t>
            </a:r>
            <a:endParaRPr b="1"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curring time-intervals</a:t>
            </a:r>
            <a:endParaRPr b="0" lang="en-US" sz="3200" spc="-1" strike="noStrike">
              <a:solidFill>
                <a:srgbClr val="003366"/>
              </a:solidFill>
              <a:latin typeface="Arial Black"/>
            </a:endParaRPr>
          </a:p>
        </p:txBody>
      </p:sp>
      <p:sp>
        <p:nvSpPr>
          <p:cNvPr id="13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curring time intervals are expressed by:</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nd start and end times</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nd a duration</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mp; start time &amp; a duration</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mp; duration &amp; end time</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f # of recurrences is not provided than the number is unbounded</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t>
            </a:r>
            <a:r>
              <a:rPr b="1" lang="en-US" sz="2800" spc="-1" strike="noStrike">
                <a:solidFill>
                  <a:srgbClr val="333333"/>
                </a:solidFill>
                <a:latin typeface="Arial"/>
              </a:rPr>
              <a:t>R” is used to indicate recursion</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1447920"/>
            <a:ext cx="8076960" cy="488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ring with Start and End Tim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YYYY-MM-DDThh:mm:ss/YYYY-MM-DDThh:mm:s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1985-04-12T23:20:50/1985-06-25T10:30:00</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ring with a dur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PnYnMnDTnHnM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P2Y10M15DT10H20M20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ring with a Start Time and dur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YYYY-MM-DDThh:mm:ss/PnYnMnDTnHnM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1985-04-12T23:20:50/P2Y2M15DT12H30M0S</a:t>
            </a: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Examples of recurring time-intervals</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Objectives for this session</a:t>
            </a:r>
            <a:endParaRPr b="0" lang="en-US" sz="3200" spc="-1" strike="noStrike">
              <a:solidFill>
                <a:srgbClr val="003366"/>
              </a:solidFill>
              <a:latin typeface="Arial Black"/>
            </a:endParaRPr>
          </a:p>
        </p:txBody>
      </p:sp>
      <p:sp>
        <p:nvSpPr>
          <p:cNvPr id="9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SO 8601:1988 is updated in 2000.</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hat is in ISO 8601:2000?</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re there potential pitfalls in using ISO 8601, especially for internationalization?</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f so, are there workaround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Benefits of ISO 8601</a:t>
            </a:r>
            <a:endParaRPr b="0" lang="en-US" sz="3200" spc="-1" strike="noStrike">
              <a:solidFill>
                <a:srgbClr val="003366"/>
              </a:solidFill>
              <a:latin typeface="Arial Black"/>
            </a:endParaRPr>
          </a:p>
        </p:txBody>
      </p:sp>
      <p:sp>
        <p:nvSpPr>
          <p:cNvPr id="138"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Human-readabl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asy to us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asy to parse, unambiguou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oes not favor any cultur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asy to sort</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any date-time schemes exist, a standard is needed</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2057400"/>
            <a:ext cx="7562880" cy="307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Overview of ISO 8601</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 Area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tion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0" name=""/>
          <p:cNvSpPr/>
          <p:nvPr/>
        </p:nvSpPr>
        <p:spPr>
          <a:xfrm>
            <a:off x="457200" y="2743200"/>
            <a:ext cx="7620120" cy="762120"/>
          </a:xfrm>
          <a:prstGeom prst="rect">
            <a:avLst/>
          </a:prstGeom>
          <a:noFill/>
          <a:ln w="57240">
            <a:solidFill>
              <a:srgbClr val="ffff0f"/>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genda</a:t>
            </a:r>
            <a:endParaRPr b="0" lang="en-US" sz="3200" spc="-1" strike="noStrike">
              <a:solidFill>
                <a:srgbClr val="003366"/>
              </a:solidFill>
              <a:latin typeface="Arial Black"/>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mbiguities</a:t>
            </a:r>
            <a:endParaRPr b="0" lang="en-US" sz="3200" spc="-1" strike="noStrike">
              <a:solidFill>
                <a:srgbClr val="003366"/>
              </a:solidFill>
              <a:latin typeface="Arial Black"/>
            </a:endParaRPr>
          </a:p>
        </p:txBody>
      </p:sp>
      <p:sp>
        <p:nvSpPr>
          <p:cNvPr id="143" name="PlaceHolder 2"/>
          <p:cNvSpPr>
            <a:spLocks noGrp="1"/>
          </p:cNvSpPr>
          <p:nvPr>
            <p:ph/>
          </p:nvPr>
        </p:nvSpPr>
        <p:spPr>
          <a:xfrm>
            <a:off x="761760" y="1828800"/>
            <a:ext cx="7924680" cy="4114800"/>
          </a:xfrm>
          <a:prstGeom prst="rect">
            <a:avLst/>
          </a:prstGeom>
          <a:noFill/>
          <a:ln w="0">
            <a:noFill/>
          </a:ln>
        </p:spPr>
        <p:txBody>
          <a:bodyPr lIns="90000" rIns="90000" tIns="46800" bIns="46800" anchor="t">
            <a:normAutofit fontScale="91000"/>
          </a:bodyPr>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uture leap seconds are unpredictable</a:t>
            </a:r>
            <a:endParaRPr b="1" lang="en-US" sz="2800" spc="-1" strike="noStrike">
              <a:solidFill>
                <a:srgbClr val="333333"/>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Is 2010-03-31T23:59:60Z valid?</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Year, month, minute have varying sizes</a:t>
            </a:r>
            <a:endParaRPr b="1" lang="en-US" sz="2800" spc="-1" strike="noStrike">
              <a:solidFill>
                <a:srgbClr val="333333"/>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P1M = P28D or P29D or P30D or P31D</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ismatched precision</a:t>
            </a:r>
            <a:endParaRPr b="1" lang="en-US" sz="2800" spc="-1" strike="noStrike">
              <a:solidFill>
                <a:srgbClr val="333333"/>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1985W50  &lt;= 1985W501?</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runcation opens the door for Y2K issues</a:t>
            </a:r>
            <a:endParaRPr b="1" lang="en-US" sz="28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Variations of 8601 exist in practice</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Julian, Gregorian, Emperor...</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mbiguities</a:t>
            </a:r>
            <a:endParaRPr b="0" lang="en-US" sz="3200" spc="-1" strike="noStrike">
              <a:solidFill>
                <a:srgbClr val="003366"/>
              </a:solidFill>
              <a:latin typeface="Arial Black"/>
            </a:endParaRPr>
          </a:p>
        </p:txBody>
      </p:sp>
      <p:sp>
        <p:nvSpPr>
          <p:cNvPr id="145" name="PlaceHolder 2"/>
          <p:cNvSpPr>
            <a:spLocks noGrp="1"/>
          </p:cNvSpPr>
          <p:nvPr>
            <p:ph/>
          </p:nvPr>
        </p:nvSpPr>
        <p:spPr>
          <a:xfrm>
            <a:off x="761760" y="1828800"/>
            <a:ext cx="792468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 arithmetic is not defined</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M = 2001-04-29 (Add 30 days)</a:t>
            </a:r>
            <a:endParaRPr b="1" lang="en-US" sz="26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M = 2001-04-30 (Add 1 mon.)</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ddition is not commutative or associative</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D + P1M = 2001-04-30</a:t>
            </a:r>
            <a:endParaRPr b="1" lang="en-US" sz="26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M + P1D = 2001-05-01</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ubtraction is not the inverse of Addition</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Precision of decimal fractions can vary</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onversions</a:t>
            </a:r>
            <a:endParaRPr b="0" lang="en-US" sz="3200" spc="-1" strike="noStrike">
              <a:solidFill>
                <a:srgbClr val="003366"/>
              </a:solidFill>
              <a:latin typeface="Arial Black"/>
            </a:endParaRPr>
          </a:p>
        </p:txBody>
      </p:sp>
      <p:sp>
        <p:nvSpPr>
          <p:cNvPr id="14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Gregorian calendar adopted at different times around the world</a:t>
            </a:r>
            <a:endParaRPr b="1" lang="en-US" sz="2800" spc="-1" strike="noStrike">
              <a:solidFill>
                <a:srgbClr val="333333"/>
              </a:solidFill>
              <a:latin typeface="Arial"/>
            </a:endParaRPr>
          </a:p>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ost calendars do not include year 0.</a:t>
            </a:r>
            <a:endParaRPr b="1" lang="en-US" sz="2800" spc="-1" strike="noStrike">
              <a:solidFill>
                <a:srgbClr val="333333"/>
              </a:solidFill>
              <a:latin typeface="Arial"/>
            </a:endParaRPr>
          </a:p>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8601 extends leap years into the past, other calendars do not.</a:t>
            </a:r>
            <a:endParaRPr b="1" lang="en-US" sz="2800" spc="-1" strike="noStrike">
              <a:solidFill>
                <a:srgbClr val="333333"/>
              </a:solidFill>
              <a:latin typeface="Arial"/>
            </a:endParaRPr>
          </a:p>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 without times are often not qualified by time zone.</a:t>
            </a:r>
            <a:endParaRPr b="1" lang="en-US" sz="2800" spc="-1" strike="noStrike">
              <a:solidFill>
                <a:srgbClr val="333333"/>
              </a:solidFill>
              <a:latin typeface="Arial"/>
            </a:endParaRPr>
          </a:p>
          <a:p>
            <a:pPr lvl="1" marL="705600" indent="-2714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Time zones (currently) go from -13 to +12</a:t>
            </a:r>
            <a:endParaRPr b="1" lang="en-US" sz="2600" spc="-1" strike="noStrike">
              <a:solidFill>
                <a:srgbClr val="333333"/>
              </a:solidFill>
              <a:latin typeface="Arial"/>
            </a:endParaRPr>
          </a:p>
          <a:p>
            <a:pPr lvl="1" marL="705600" indent="-2714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o the date could be +/- 1 day</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onversions</a:t>
            </a:r>
            <a:endParaRPr b="0" lang="en-US" sz="3200" spc="-1" strike="noStrike">
              <a:solidFill>
                <a:srgbClr val="003366"/>
              </a:solidFill>
              <a:latin typeface="Arial Black"/>
            </a:endParaRPr>
          </a:p>
        </p:txBody>
      </p:sp>
      <p:sp>
        <p:nvSpPr>
          <p:cNvPr id="14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Laws determining daylight savings time change continually</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ifficult to know local time offset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066680" y="2057400"/>
            <a:ext cx="7562880" cy="307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Overview of ISO 8601</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 Area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tion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1" name=""/>
          <p:cNvSpPr/>
          <p:nvPr/>
        </p:nvSpPr>
        <p:spPr>
          <a:xfrm>
            <a:off x="457200" y="3581280"/>
            <a:ext cx="7620120" cy="762120"/>
          </a:xfrm>
          <a:prstGeom prst="rect">
            <a:avLst/>
          </a:prstGeom>
          <a:noFill/>
          <a:ln w="57240">
            <a:solidFill>
              <a:srgbClr val="ffff0f"/>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genda</a:t>
            </a:r>
            <a:endParaRPr b="0" lang="en-US" sz="3200" spc="-1" strike="noStrike">
              <a:solidFill>
                <a:srgbClr val="003366"/>
              </a:solidFill>
              <a:latin typeface="Arial Black"/>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Solutions</a:t>
            </a:r>
            <a:endParaRPr b="0" lang="en-US" sz="3200" spc="-1" strike="noStrike">
              <a:solidFill>
                <a:srgbClr val="003366"/>
              </a:solidFill>
              <a:latin typeface="Arial Black"/>
            </a:endParaRPr>
          </a:p>
        </p:txBody>
      </p:sp>
      <p:sp>
        <p:nvSpPr>
          <p:cNvPr id="15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utual Agreement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ferencing other standards and implementations</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e.g. Java</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tandards employing 8601 may need to introduce rules or constraints</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e.g. XML Schema</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strict use of 8601 format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80520" y="1523520"/>
            <a:ext cx="8534520" cy="495324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ark Davis (IBM)</a:t>
            </a:r>
            <a:endParaRPr b="1"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ww.macchiato.com/unicode/timeIntervals.htm</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3C Internationalization working and interest group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http://www.iso.ch/cate/d26780.html (to order the standard)</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Other resources</a:t>
            </a:r>
            <a:endParaRPr b="1" lang="en-US" sz="2800" spc="-1" strike="noStrike">
              <a:solidFill>
                <a:srgbClr val="333333"/>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ail list: ISO8601@yahoogroups.com</a:t>
            </a:r>
            <a:endParaRPr b="1" lang="en-US" sz="28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Links: groups.yahoo.com/group/ISO8601/files/pdf_link.htm</a:t>
            </a:r>
            <a:endParaRPr b="1" lang="en-US" sz="2400" spc="-1" strike="noStrike">
              <a:solidFill>
                <a:srgbClr val="333333"/>
              </a:solidFill>
              <a:latin typeface="Arial"/>
            </a:endParaRPr>
          </a:p>
        </p:txBody>
      </p:sp>
      <p:sp>
        <p:nvSpPr>
          <p:cNvPr id="156"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Black"/>
              </a:rPr>
              <a:t>Acknowledgements</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3924360" y="0"/>
            <a:ext cx="5226120" cy="685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alpha val="50000"/>
                  </a:srgbClr>
                </a:solidFill>
                <a:latin typeface="Times New Roman"/>
              </a:rPr>
              <a:t>?</a:t>
            </a:r>
            <a:endParaRPr b="1" lang="en-US" sz="2400" spc="1" strike="noStrike">
              <a:ln w="0">
                <a:noFill/>
              </a:ln>
              <a:solidFill>
                <a:srgbClr val="ff6600">
                  <a:alpha val="50000"/>
                </a:srgbClr>
              </a:solidFill>
              <a:latin typeface="Times New Roman"/>
              <a:ea typeface="Times New Roman"/>
            </a:endParaRPr>
          </a:p>
        </p:txBody>
      </p:sp>
      <p:sp>
        <p:nvSpPr>
          <p:cNvPr id="158" name="PlaceHolder 1"/>
          <p:cNvSpPr>
            <a:spLocks noGrp="1"/>
          </p:cNvSpPr>
          <p:nvPr>
            <p:ph type="title"/>
          </p:nvPr>
        </p:nvSpPr>
        <p:spPr>
          <a:xfrm>
            <a:off x="763200" y="1447560"/>
            <a:ext cx="5614920" cy="22366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a:solidFill>
                  <a:srgbClr val="003366"/>
                </a:solidFill>
                <a:latin typeface="Arial Black"/>
              </a:rPr>
              <a:t>Questions</a:t>
            </a:r>
            <a:endParaRPr b="0" lang="en-US" sz="5600" spc="-1" strike="noStrike">
              <a:solidFill>
                <a:srgbClr val="003366"/>
              </a:solidFill>
              <a:latin typeface="Arial Black"/>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66680" y="2057400"/>
            <a:ext cx="7562880" cy="307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Overview of ISO 8601</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 Area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tion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5" name=""/>
          <p:cNvSpPr/>
          <p:nvPr/>
        </p:nvSpPr>
        <p:spPr>
          <a:xfrm>
            <a:off x="457200" y="1914480"/>
            <a:ext cx="7620120" cy="762120"/>
          </a:xfrm>
          <a:prstGeom prst="rect">
            <a:avLst/>
          </a:prstGeom>
          <a:noFill/>
          <a:ln w="57240">
            <a:solidFill>
              <a:srgbClr val="ffff0f"/>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genda</a:t>
            </a:r>
            <a:endParaRPr b="0" lang="en-US" sz="3200" spc="-1" strike="noStrike">
              <a:solidFill>
                <a:srgbClr val="003366"/>
              </a:solidFill>
              <a:latin typeface="Arial Black"/>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1760" y="1828800"/>
            <a:ext cx="792468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alendar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rdinal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Week dates</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 of day</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ocal vs. Universal Time Coordinated (UTC)</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bined data and time</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interval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Recurring time-intervals</a:t>
            </a:r>
            <a:endParaRPr b="1" lang="en-US" sz="2600" spc="-1" strike="noStrike">
              <a:solidFill>
                <a:srgbClr val="333333"/>
              </a:solidFill>
              <a:latin typeface="Arial"/>
            </a:endParaRPr>
          </a:p>
        </p:txBody>
      </p:sp>
      <p:sp>
        <p:nvSpPr>
          <p:cNvPr id="98" name=""/>
          <p:cNvSpPr/>
          <p:nvPr/>
        </p:nvSpPr>
        <p:spPr>
          <a:xfrm>
            <a:off x="457200" y="1981080"/>
            <a:ext cx="8381880" cy="4419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 name=""/>
          <p:cNvSpPr/>
          <p:nvPr/>
        </p:nvSpPr>
        <p:spPr>
          <a:xfrm flipH="1">
            <a:off x="5257080" y="1752480"/>
            <a:ext cx="1981080" cy="486000"/>
          </a:xfrm>
          <a:custGeom>
            <a:avLst/>
            <a:gdLst>
              <a:gd name="textAreaLeft" fmla="*/ 309240 w 1981080"/>
              <a:gd name="textAreaRight" fmla="*/ 1733400 w 198108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SO 8601:2000 Overview</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 times, durations and intervals</a:t>
            </a:r>
            <a:endParaRPr b="0" lang="en-US" sz="3200" spc="-1" strike="noStrike">
              <a:solidFill>
                <a:srgbClr val="003366"/>
              </a:solidFill>
              <a:latin typeface="Arial Black"/>
            </a:endParaRPr>
          </a:p>
        </p:txBody>
      </p:sp>
      <p:sp>
        <p:nvSpPr>
          <p:cNvPr id="102" name="PlaceHolder 2"/>
          <p:cNvSpPr>
            <a:spLocks noGrp="1"/>
          </p:cNvSpPr>
          <p:nvPr>
            <p:ph/>
          </p:nvPr>
        </p:nvSpPr>
        <p:spPr>
          <a:xfrm>
            <a:off x="914400" y="1371600"/>
            <a:ext cx="7772400" cy="4572000"/>
          </a:xfrm>
          <a:prstGeom prst="rect">
            <a:avLst/>
          </a:prstGeom>
          <a:noFill/>
          <a:ln w="0">
            <a:noFill/>
          </a:ln>
        </p:spPr>
        <p:txBody>
          <a:bodyPr lIns="90000" rIns="90000" tIns="46800" bIns="46800" anchor="t">
            <a:normAutofit fontScale="91000"/>
          </a:bodyPr>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Uses character representation</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ISO/IEC 646, no spaces</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parators (</a:t>
            </a:r>
            <a:r>
              <a:rPr b="1" lang="en-US" sz="2800" spc="-1" strike="noStrike" u="sng">
                <a:solidFill>
                  <a:srgbClr val="333333"/>
                </a:solidFill>
                <a:uFillTx/>
                <a:latin typeface="Arial"/>
              </a:rPr>
              <a:t>Extended Format</a:t>
            </a:r>
            <a:r>
              <a:rPr b="1" lang="en-US" sz="2800" spc="-1" strike="noStrike">
                <a:solidFill>
                  <a:srgbClr val="333333"/>
                </a:solidFill>
                <a:latin typeface="Arial"/>
              </a:rPr>
              <a:t>)</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Hyphens, Colons, Solidus, Number sign</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runcation</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mission of higher order components</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duced Precision</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mission of lower order components</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xpansion- years &lt; 0 or years &gt; 9999</a:t>
            </a:r>
            <a:endParaRPr b="1" lang="en-US" sz="28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ixed length fields using leading zero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 times, durations and intervals</a:t>
            </a:r>
            <a:endParaRPr b="0" lang="en-US" sz="3200" spc="-1" strike="noStrike">
              <a:solidFill>
                <a:srgbClr val="003366"/>
              </a:solidFill>
              <a:latin typeface="Arial Black"/>
            </a:endParaRPr>
          </a:p>
        </p:txBody>
      </p:sp>
      <p:sp>
        <p:nvSpPr>
          <p:cNvPr id="10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esignator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P” is time-interval designator</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R” is recurring time-interval designator</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T” indicates start of Time element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W” is week designator</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Z” is UTC designator</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uration designator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 M, W, D, H, M, S may be used</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M can be minute, month, or both</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alendar Dates</a:t>
            </a:r>
            <a:endParaRPr b="0" lang="en-US" sz="3200" spc="-1" strike="noStrike">
              <a:solidFill>
                <a:srgbClr val="003366"/>
              </a:solidFill>
              <a:latin typeface="Arial Black"/>
            </a:endParaRPr>
          </a:p>
        </p:txBody>
      </p:sp>
      <p:sp>
        <p:nvSpPr>
          <p:cNvPr id="106"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Gregorian calendar</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1875 is reference point</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mon (365) and Leap (366) years</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eap is every 4th year except centennial years that are not integrally divisible by 400</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Gregorian is used even for years &lt; 1582 (by mutual agreement).</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0000 is leap.</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alendar week</a:t>
            </a:r>
            <a:endParaRPr b="0" lang="en-US" sz="3200" spc="-1" strike="noStrike">
              <a:solidFill>
                <a:srgbClr val="003366"/>
              </a:solidFill>
              <a:latin typeface="Arial Black"/>
            </a:endParaRPr>
          </a:p>
        </p:txBody>
      </p:sp>
      <p:sp>
        <p:nvSpPr>
          <p:cNvPr id="108"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onday is day 1, Sunday is day 7.</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s are numbered 1- 52 or 1 - 53.</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1 includes the first Thursday of year.</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lternatively, Week 1 includes Jan 4.</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1 may include 3 days of last year.</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ast week may include 3 days of next year.</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a:t>
            </a:r>
            <a:endParaRPr b="0" lang="en-US" sz="3200" spc="-1" strike="noStrike">
              <a:solidFill>
                <a:srgbClr val="003366"/>
              </a:solidFill>
              <a:latin typeface="Arial Black"/>
            </a:endParaRPr>
          </a:p>
        </p:txBody>
      </p:sp>
      <p:sp>
        <p:nvSpPr>
          <p:cNvPr id="110"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alendar date</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month, day number within month</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Ordinal date</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day number within year</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date</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week, number within week</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1T22:16:01Z</dcterms:created>
  <dc:creator>Tex Texin</dc:creator>
  <dc:description/>
  <dc:language>en-US</dc:language>
  <cp:lastModifiedBy>Tex Texin</cp:lastModifiedBy>
  <cp:lastPrinted>2001-03-17T00:55:16Z</cp:lastPrinted>
  <dcterms:modified xsi:type="dcterms:W3CDTF">2001-12-16T20:33:51Z</dcterms:modified>
  <cp:revision>36</cp:revision>
  <dc:subject/>
  <dc:title>Understanding ISO 8601 date elements and interchange formats</dc:title>
</cp:coreProperties>
</file>